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E63-3CA6-4C0B-A11E-9FC08CA1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E88-ED94-44DD-95E4-BF44466F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859-1651-433F-B1CC-E89D5EB9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23B-714A-4A2D-8F03-D30CD7DB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CCA6-6424-4784-8A6B-96B34999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D20B-AF33-47AE-A868-A835EDD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178-41C0-4B80-A8B8-AD94840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EEEB-CC92-4612-A543-F8B6CEB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BE8-1D20-444E-8CFE-746DBD85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7278-909C-4EA3-A9BC-0A3D669B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2502-6EB7-4F9A-845D-867F151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79E-6ADA-41BC-8E14-2133E30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B5B9-A1E4-4EEA-B0CA-FCB97AA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934-A5BD-407D-BAA5-43FB4D3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8728-D068-4C93-BF21-D798836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4B76-3F0B-400D-9C8F-FA9BA784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BAC-4BA8-48C5-93DB-C0D0FDCB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2A3-60AC-45D3-A59E-FC95D632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5EA-BE4D-4F08-A027-CBBC408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B3B-E99A-40B9-904E-7B186DE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F61-0D1F-4DC6-AAE5-99DBB158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C09-90AB-464A-B0B3-ECB6912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0A8-0EB3-43C5-96F1-22651EB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E7-6282-430A-B4D9-202F9818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D36-9EA7-492E-8E19-C0C3FA3D0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0F79-86EA-4025-9836-0DCCAF2BD62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676520"/>
            <a:ext cx="8078760" cy="27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Monotype Corsiva"/>
              </a:rPr>
              <a:t>Импульс тела. Закон сохранения импульса тел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1835280" y="29671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ФИЗИКИ МАОУ СОШ№5 Л.В.ПОП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Содержимое 3" descr="3.GIF"/>
          <p:cNvPicPr/>
          <p:nvPr/>
        </p:nvPicPr>
        <p:blipFill>
          <a:blip r:embed="rId1"/>
          <a:stretch/>
        </p:blipFill>
        <p:spPr>
          <a:xfrm>
            <a:off x="846000" y="549360"/>
            <a:ext cx="453420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009.GIF"/>
          <p:cNvPicPr/>
          <p:nvPr/>
        </p:nvPicPr>
        <p:blipFill>
          <a:blip r:embed="rId2"/>
          <a:stretch/>
        </p:blipFill>
        <p:spPr>
          <a:xfrm>
            <a:off x="971640" y="2852640"/>
            <a:ext cx="2114640" cy="116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238104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1.GIF"/>
          <p:cNvPicPr/>
          <p:nvPr/>
        </p:nvPicPr>
        <p:blipFill>
          <a:blip r:embed="rId4"/>
          <a:stretch/>
        </p:blipFill>
        <p:spPr>
          <a:xfrm>
            <a:off x="3708360" y="2637000"/>
            <a:ext cx="501984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2.GIF"/>
          <p:cNvPicPr/>
          <p:nvPr/>
        </p:nvPicPr>
        <p:blipFill>
          <a:blip r:embed="rId5"/>
          <a:stretch/>
        </p:blipFill>
        <p:spPr>
          <a:xfrm>
            <a:off x="3564000" y="472428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81360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босновать необходимость введения новой физической величины – импуль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формировать понятие о замкнутых системах, вывести закон сохранения импуль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impuls"/>
          <p:cNvPicPr/>
          <p:nvPr/>
        </p:nvPicPr>
        <p:blipFill>
          <a:blip r:embed="rId2"/>
          <a:stretch/>
        </p:blipFill>
        <p:spPr>
          <a:xfrm>
            <a:off x="1403280" y="1413000"/>
            <a:ext cx="6827760" cy="5138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нятие импуль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1-16-2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zacon"/>
          <p:cNvPicPr/>
          <p:nvPr/>
        </p:nvPicPr>
        <p:blipFill>
          <a:blip r:embed="rId2"/>
          <a:stretch/>
        </p:blipFill>
        <p:spPr>
          <a:xfrm>
            <a:off x="755640" y="14130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он сохранения импуль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1-17-2"/>
          <p:cNvPicPr/>
          <p:nvPr/>
        </p:nvPicPr>
        <p:blipFill>
          <a:blip r:embed="rId2"/>
          <a:stretch/>
        </p:blipFill>
        <p:spPr>
          <a:xfrm>
            <a:off x="539640" y="2421000"/>
            <a:ext cx="3571920" cy="190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rav2"/>
          <p:cNvPicPr/>
          <p:nvPr/>
        </p:nvPicPr>
        <p:blipFill>
          <a:blip r:embed="rId3"/>
          <a:stretch/>
        </p:blipFill>
        <p:spPr>
          <a:xfrm>
            <a:off x="4643280" y="3284640"/>
            <a:ext cx="4176720" cy="3182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закона сохранения импуль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56:30Z</dcterms:created>
  <dc:creator>Вагина</dc:creator>
  <dc:description/>
  <dc:language>en-US</dc:language>
  <cp:lastModifiedBy>наталья</cp:lastModifiedBy>
  <dcterms:modified xsi:type="dcterms:W3CDTF">2013-12-05T07:34:45Z</dcterms:modified>
  <cp:revision>16</cp:revision>
  <dc:subject/>
  <dc:title>Импульс тела. Закон сохранения импульса тела</dc:title>
</cp:coreProperties>
</file>